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0.jpeg" ContentType="image/jpeg"/>
  <Override PartName="/ppt/media/image8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14.wmf" ContentType="image/x-wmf"/>
  <Override PartName="/ppt/media/image24.jpeg" ContentType="image/jpeg"/>
  <Override PartName="/ppt/media/image1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22.wmf" ContentType="image/x-wmf"/>
  <Override PartName="/ppt/media/image16.jpeg" ContentType="image/jpeg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C3F-C9AA-4313-B856-9B7F389B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6F5-9A0B-43C3-BB20-AD513FFA9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A9F-1304-484F-B4B9-D56EC818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23B3-8EC3-4F9C-A612-D87E56BBB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CECE-9462-4268-BCF0-4DBDDDB2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3980-0BBF-4C83-82AF-BB539661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81F-3621-4A56-8533-8B32CF42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390-1E51-4FF1-9ACE-2C08DE15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E3A-834E-45A5-A4E5-64432E3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D124-F427-4E90-B817-96828529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D805-2AEE-484B-95EF-DAD48A9F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078-C0D8-495B-A926-54414675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68EF-4369-401F-97D9-3871B287B3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ENVIRONMENTAL PROBLEMS OF THE WORL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C:\Documents and Settings\matt michaelis\Local Settings\Temporary Internet Files\Content.IE5\UTNA9PDP\MC900199277[1].wmf"/>
          <p:cNvPicPr/>
          <p:nvPr/>
        </p:nvPicPr>
        <p:blipFill>
          <a:blip r:embed="rId1"/>
          <a:stretch/>
        </p:blipFill>
        <p:spPr>
          <a:xfrm>
            <a:off x="1440000" y="1508040"/>
            <a:ext cx="59436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alibri"/>
              </a:rPr>
              <a:t>Summary: what should w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 and protect nature reser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duce consumption of natural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duce use of fossil fu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velop alternative energy 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ctively regulate industrial waste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ovide health care, family planning, and sex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upport and encourage organic fa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C:\Documents and Settings\matt michaelis\Local Settings\Temporary Internet Files\Content.IE5\AUX8SXF9\MP900444332[1].jpg"/>
          <p:cNvPicPr/>
          <p:nvPr/>
        </p:nvPicPr>
        <p:blipFill>
          <a:blip r:embed="rId1"/>
          <a:stretch/>
        </p:blipFill>
        <p:spPr>
          <a:xfrm>
            <a:off x="1295280" y="5381640"/>
            <a:ext cx="2217960" cy="1476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C:\Documents and Settings\matt michaelis\Local Settings\Temporary Internet Files\Content.IE5\1SIQPUP8\MC900434736[1].png"/>
          <p:cNvPicPr/>
          <p:nvPr/>
        </p:nvPicPr>
        <p:blipFill>
          <a:blip r:embed="rId2"/>
          <a:stretch/>
        </p:blipFill>
        <p:spPr>
          <a:xfrm>
            <a:off x="72388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C:\Documents and Settings\matt michaelis\Local Settings\Temporary Internet Files\Content.IE5\SQVNAX4K\MP900437208[1].jpg"/>
          <p:cNvPicPr/>
          <p:nvPr/>
        </p:nvPicPr>
        <p:blipFill>
          <a:blip r:embed="rId3"/>
          <a:stretch/>
        </p:blipFill>
        <p:spPr>
          <a:xfrm>
            <a:off x="7318440" y="4419720"/>
            <a:ext cx="1825560" cy="2733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4" descr="C:\Documents and Settings\matt michaelis\Local Settings\Temporary Internet Files\Content.IE5\SQVNAX4K\MC900324476[1].wmf"/>
          <p:cNvPicPr/>
          <p:nvPr/>
        </p:nvPicPr>
        <p:blipFill>
          <a:blip r:embed="rId4"/>
          <a:stretch/>
        </p:blipFill>
        <p:spPr>
          <a:xfrm>
            <a:off x="4648320" y="5402160"/>
            <a:ext cx="1676160" cy="14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Some of the problems the earth and humanity now face includ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orest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r pol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ater poll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verpop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mate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duction of biodiver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pletion of natural resour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matt michaelis\Local Settings\Temporary Internet Files\Content.IE5\2C164J3K\MC900197876[1].wmf"/>
          <p:cNvPicPr/>
          <p:nvPr/>
        </p:nvPicPr>
        <p:blipFill>
          <a:blip r:embed="rId1"/>
          <a:stretch/>
        </p:blipFill>
        <p:spPr>
          <a:xfrm>
            <a:off x="4103640" y="1241280"/>
            <a:ext cx="5040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Defores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rest are being destroyed for timber, and to open land for building or farm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forestation causes extinction, changes to climatic conditions, desertification, and displacement of popul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ment of nature reserves and reduced resource consumption can limit th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8" descr="C:\Documents and Settings\matt michaelis\Local Settings\Temporary Internet Files\Content.IE5\1SIQPUP8\MC900437212[1].jpg"/>
          <p:cNvPicPr/>
          <p:nvPr/>
        </p:nvPicPr>
        <p:blipFill>
          <a:blip r:embed="rId1"/>
          <a:stretch/>
        </p:blipFill>
        <p:spPr>
          <a:xfrm>
            <a:off x="5943600" y="1371600"/>
            <a:ext cx="3200400" cy="285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C:\Documents and Settings\matt michaelis\Local Settings\Temporary Internet Files\Content.IE5\1NPLWLFB\MP900442879[1].jpg"/>
          <p:cNvPicPr/>
          <p:nvPr/>
        </p:nvPicPr>
        <p:blipFill>
          <a:blip r:embed="rId2"/>
          <a:stretch/>
        </p:blipFill>
        <p:spPr>
          <a:xfrm>
            <a:off x="1066680" y="1828800"/>
            <a:ext cx="37674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Air 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imarily caused by emissions from factories and means of transport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armful effects on humans include increased heart disease, difficulty in breathing, emphysema, asthma, and premature mort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efficient technology, and significantly reduced reliance on fossil fuels are primary means of improving air qual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Documents and Settings\matt michaelis\Local Settings\Temporary Internet Files\Content.IE5\SQVNAX4K\MC900132639[1].wmf"/>
          <p:cNvPicPr/>
          <p:nvPr/>
        </p:nvPicPr>
        <p:blipFill>
          <a:blip r:embed="rId1"/>
          <a:stretch/>
        </p:blipFill>
        <p:spPr>
          <a:xfrm>
            <a:off x="6172200" y="2895480"/>
            <a:ext cx="297180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matt michaelis\Local Settings\Temporary Internet Files\Content.IE5\AKF1PHW9\MC900014535[1].wmf"/>
          <p:cNvPicPr/>
          <p:nvPr/>
        </p:nvPicPr>
        <p:blipFill>
          <a:blip r:embed="rId2"/>
          <a:stretch/>
        </p:blipFill>
        <p:spPr>
          <a:xfrm>
            <a:off x="0" y="3733920"/>
            <a:ext cx="2174760" cy="1141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matt michaelis\Local Settings\Temporary Internet Files\Content.IE5\1NPLWLFB\MC900437283[1].jpg"/>
          <p:cNvPicPr/>
          <p:nvPr/>
        </p:nvPicPr>
        <p:blipFill>
          <a:blip r:embed="rId3"/>
          <a:stretch/>
        </p:blipFill>
        <p:spPr>
          <a:xfrm>
            <a:off x="3276720" y="3581280"/>
            <a:ext cx="266688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Water pol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ources include toxic wastes from industries, pesticides and fertilizers, and city sew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luted water is unfit for drinking or agriculture, and harmful to plants, animals, fish and birds.  It disturbs the entire ecosystem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eans of prevention include organic farming, strict regulation of industrial waste disposal, and using natural household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matt michaelis\Local Settings\Temporary Internet Files\Content.IE5\1SIQPUP8\MC900131733[1].wmf"/>
          <p:cNvPicPr/>
          <p:nvPr/>
        </p:nvPicPr>
        <p:blipFill>
          <a:blip r:embed="rId1"/>
          <a:stretch/>
        </p:blipFill>
        <p:spPr>
          <a:xfrm>
            <a:off x="5818320" y="762120"/>
            <a:ext cx="3325680" cy="1636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C:\Documents and Settings\matt michaelis\Local Settings\Temporary Internet Files\Content.IE5\AKF1PHW9\MP900437215[1].jpg"/>
          <p:cNvPicPr/>
          <p:nvPr/>
        </p:nvPicPr>
        <p:blipFill>
          <a:blip r:embed="rId2"/>
          <a:stretch/>
        </p:blipFill>
        <p:spPr>
          <a:xfrm>
            <a:off x="2514600" y="838080"/>
            <a:ext cx="2436840" cy="1828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C:\Documents and Settings\matt michaelis\Local Settings\Temporary Internet Files\Content.IE5\AUX8SXF9\MC900014538[1].wmf"/>
          <p:cNvPicPr/>
          <p:nvPr/>
        </p:nvPicPr>
        <p:blipFill>
          <a:blip r:embed="rId3"/>
          <a:stretch/>
        </p:blipFill>
        <p:spPr>
          <a:xfrm>
            <a:off x="380880" y="380880"/>
            <a:ext cx="17845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Overpop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761760"/>
            <a:ext cx="6248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ore people on Earth increases demand for resources and exacerbates every other environmental probl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imated figures suggest that the world population will be more than 9 billion by the year 205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ays of addressing the problem include improved education, health care, family planning, tax incentives, and sex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8" descr="C:\Documents and Settings\matt michaelis\Local Settings\Temporary Internet Files\Content.IE5\2C164J3K\MC900055219[1].wmf"/>
          <p:cNvPicPr/>
          <p:nvPr/>
        </p:nvPicPr>
        <p:blipFill>
          <a:blip r:embed="rId1"/>
          <a:stretch/>
        </p:blipFill>
        <p:spPr>
          <a:xfrm>
            <a:off x="6400800" y="3124080"/>
            <a:ext cx="1752480" cy="35863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:\Documents and Settings\matt michaelis\Local Settings\Temporary Internet Files\Content.IE5\1SIQPUP8\MP900442426[1].jpg"/>
          <p:cNvPicPr/>
          <p:nvPr/>
        </p:nvPicPr>
        <p:blipFill>
          <a:blip r:embed="rId2"/>
          <a:stretch/>
        </p:blipFill>
        <p:spPr>
          <a:xfrm>
            <a:off x="6019920" y="838080"/>
            <a:ext cx="31240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alibri"/>
              </a:rPr>
              <a:t>Climate ch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7040" y="685440"/>
            <a:ext cx="7086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arly all climate scientists agree that human activities are changing the Earth’s climate—mainly through the consumption of fossil fue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ising global temperatures can lead to more extreme weather, rising sea levels, massive ecological disruption, and economic catastrop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re is hope that new technologies can slow or stop climate change, but the only feasible solution may be drastic reduction of carbon emiss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Documents and Settings\matt michaelis\Local Settings\Temporary Internet Files\Content.IE5\AUX8SXF9\MC900104564[1].wmf"/>
          <p:cNvPicPr/>
          <p:nvPr/>
        </p:nvPicPr>
        <p:blipFill>
          <a:blip r:embed="rId1"/>
          <a:stretch/>
        </p:blipFill>
        <p:spPr>
          <a:xfrm>
            <a:off x="304920" y="1676520"/>
            <a:ext cx="1758960" cy="1809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matt michaelis\Local Settings\Temporary Internet Files\Content.IE5\1SIQPUP8\MP900437180[1].jpg"/>
          <p:cNvPicPr/>
          <p:nvPr/>
        </p:nvPicPr>
        <p:blipFill>
          <a:blip r:embed="rId2"/>
          <a:stretch/>
        </p:blipFill>
        <p:spPr>
          <a:xfrm>
            <a:off x="0" y="3581280"/>
            <a:ext cx="2187720" cy="3276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Documents and Settings\matt michaelis\Local Settings\Temporary Internet Files\Content.IE5\1SIQPUP8\MP900442354[1].jpg"/>
          <p:cNvPicPr/>
          <p:nvPr/>
        </p:nvPicPr>
        <p:blipFill>
          <a:blip r:embed="rId3"/>
          <a:stretch/>
        </p:blipFill>
        <p:spPr>
          <a:xfrm>
            <a:off x="0" y="0"/>
            <a:ext cx="2133720" cy="1446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Documents and Settings\matt michaelis\Local Settings\Temporary Internet Files\Content.IE5\AKF1PHW9\MC900437354[1].jpg"/>
          <p:cNvPicPr/>
          <p:nvPr/>
        </p:nvPicPr>
        <p:blipFill>
          <a:blip r:embed="rId4"/>
          <a:stretch/>
        </p:blipFill>
        <p:spPr>
          <a:xfrm>
            <a:off x="7626240" y="0"/>
            <a:ext cx="1220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alibri"/>
              </a:rPr>
              <a:t>Reduction of biodiver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0" y="8380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number of species going extinct has increased drastically over the last few centuries and can have a grave impact on ecological bala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primary cause is destruction of wilderness, but other causes include overhunting, invasive species, and pollution, and climate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most effective way of maintaining biodiversity is to preserve and protect natural habita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C:\Documents and Settings\matt michaelis\Local Settings\Temporary Internet Files\Content.IE5\UTNA9PDP\MP900424391[1].jpg"/>
          <p:cNvPicPr/>
          <p:nvPr/>
        </p:nvPicPr>
        <p:blipFill>
          <a:blip r:embed="rId1"/>
          <a:stretch/>
        </p:blipFill>
        <p:spPr>
          <a:xfrm>
            <a:off x="0" y="5105520"/>
            <a:ext cx="2633760" cy="1752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matt michaelis\Local Settings\Temporary Internet Files\Content.IE5\SQVNAX4K\MC900438501[1].jpg"/>
          <p:cNvPicPr/>
          <p:nvPr/>
        </p:nvPicPr>
        <p:blipFill>
          <a:blip r:embed="rId2"/>
          <a:stretch/>
        </p:blipFill>
        <p:spPr>
          <a:xfrm>
            <a:off x="3657600" y="4978440"/>
            <a:ext cx="1844640" cy="1879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C:\Documents and Settings\matt michaelis\Local Settings\Temporary Internet Files\Content.IE5\1NPLWLFB\MP900227749[1].jpg"/>
          <p:cNvPicPr/>
          <p:nvPr/>
        </p:nvPicPr>
        <p:blipFill>
          <a:blip r:embed="rId3"/>
          <a:stretch/>
        </p:blipFill>
        <p:spPr>
          <a:xfrm>
            <a:off x="6019920" y="5108400"/>
            <a:ext cx="2630520" cy="174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C:\Documents and Settings\matt michaelis\Local Settings\Temporary Internet Files\Content.IE5\UTNA9PDP\MC900192806[1].wmf"/>
          <p:cNvPicPr/>
          <p:nvPr/>
        </p:nvPicPr>
        <p:blipFill>
          <a:blip r:embed="rId4"/>
          <a:stretch/>
        </p:blipFill>
        <p:spPr>
          <a:xfrm>
            <a:off x="8048520" y="0"/>
            <a:ext cx="1095480" cy="10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C:\Documents and Settings\matt michaelis\Local Settings\Temporary Internet Files\Content.IE5\1SIQPUP8\MC900029958[1].wmf"/>
          <p:cNvPicPr/>
          <p:nvPr/>
        </p:nvPicPr>
        <p:blipFill>
          <a:blip r:embed="rId5"/>
          <a:stretch/>
        </p:blipFill>
        <p:spPr>
          <a:xfrm>
            <a:off x="380880" y="304920"/>
            <a:ext cx="129240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f6fc6"/>
                </a:solidFill>
                <a:latin typeface="Comic Sans MS"/>
              </a:rPr>
              <a:t>Diminishing natural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umanity is depleting Earth’s supplies of clean water, crude oil, minerals, natural gas, and mo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Besides the shortages of resources we are due to face at current rates, this level of consumption causes great disturbance of ecological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The common mantra of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duce, reuse, recycl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is a good guide to lowering resource consumption, with reducing being the most importa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C:\Documents and Settings\matt michaelis\Local Settings\Temporary Internet Files\Content.IE5\1NPLWLFB\MC900222023[1].wmf"/>
          <p:cNvPicPr/>
          <p:nvPr/>
        </p:nvPicPr>
        <p:blipFill>
          <a:blip r:embed="rId1"/>
          <a:stretch/>
        </p:blipFill>
        <p:spPr>
          <a:xfrm>
            <a:off x="6324480" y="1828800"/>
            <a:ext cx="1787760" cy="1779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C:\Documents and Settings\matt michaelis\Local Settings\Temporary Internet Files\Content.IE5\QK1NH2WB\MP900185103[1].jpg"/>
          <p:cNvPicPr/>
          <p:nvPr/>
        </p:nvPicPr>
        <p:blipFill>
          <a:blip r:embed="rId2"/>
          <a:stretch/>
        </p:blipFill>
        <p:spPr>
          <a:xfrm>
            <a:off x="1143000" y="1676520"/>
            <a:ext cx="1319040" cy="1941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matt michaelis\Local Settings\Temporary Internet Files\Content.IE5\UTNA9PDP\MC900437297[1].jpg"/>
          <p:cNvPicPr/>
          <p:nvPr/>
        </p:nvPicPr>
        <p:blipFill>
          <a:blip r:embed="rId3"/>
          <a:stretch/>
        </p:blipFill>
        <p:spPr>
          <a:xfrm>
            <a:off x="3657600" y="1752480"/>
            <a:ext cx="17496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08:26:22Z</dcterms:created>
  <dc:creator>Your User Name</dc:creator>
  <dc:description/>
  <dc:language>en-US</dc:language>
  <cp:lastModifiedBy>Your User Name</cp:lastModifiedBy>
  <dcterms:modified xsi:type="dcterms:W3CDTF">2011-06-23T14:17:29Z</dcterms:modified>
  <cp:revision>79</cp:revision>
  <dc:subject/>
  <dc:title>Slide 1</dc:title>
</cp:coreProperties>
</file>